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3E9-F2AD-4CD2-9F5F-746A78D2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DEF-544E-456A-941A-5ECD6A44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EDD-E27E-43E0-8EE2-EDBC3B1F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593-356B-4C41-9D2B-BCD78643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070-DF54-412A-A384-04299646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C48-D969-4C11-B67B-388FEC69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C85-7BC3-47A4-9BFB-D4AC986B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4B5-323D-45A6-B737-CA2B3FA4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FC5-DD3A-46ED-81A6-2FCFF291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FEE-1544-4DF8-9F47-A8A81E5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2EE-763F-41B4-8972-666DE50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473-6B3E-4125-992F-8120E7E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B1F7-59FB-4CD8-B7AC-E3A1CB00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Sach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chen ist nicht gut fur deine Gesundheit.  Du musst gesund blei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hoto07"/>
          <p:cNvPicPr/>
          <p:nvPr/>
        </p:nvPicPr>
        <p:blipFill>
          <a:blip r:embed="rId1"/>
          <a:stretch/>
        </p:blipFill>
        <p:spPr>
          <a:xfrm>
            <a:off x="2666880" y="1828800"/>
            <a:ext cx="3971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es prima dass du Lauft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1_Usain-Bolt"/>
          <p:cNvPicPr/>
          <p:nvPr/>
        </p:nvPicPr>
        <p:blipFill>
          <a:blip r:embed="rId1"/>
          <a:stretch/>
        </p:blipFill>
        <p:spPr>
          <a:xfrm>
            <a:off x="533520" y="1655640"/>
            <a:ext cx="8001000" cy="444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981080" y="62485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81080" y="62485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ist Wolfg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viel Obst und Gemüse fur mein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00406162941-large.jpg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fe für 7 Stunden Jeden T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3" descr="th__Baby_Pillow.jpg"/>
          <p:cNvPicPr/>
          <p:nvPr/>
        </p:nvPicPr>
        <p:blipFill>
          <a:blip r:embed="rId1"/>
          <a:stretch/>
        </p:blipFill>
        <p:spPr>
          <a:xfrm>
            <a:off x="1806480" y="1874880"/>
            <a:ext cx="5508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ymnastiks machen jeden T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Stretches-Images.jpg"/>
          <p:cNvPicPr/>
          <p:nvPr/>
        </p:nvPicPr>
        <p:blipFill>
          <a:blip r:embed="rId1"/>
          <a:stretch/>
        </p:blipFill>
        <p:spPr>
          <a:xfrm>
            <a:off x="1425600" y="1947960"/>
            <a:ext cx="6041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kann manchmal Shokolade e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ch kann nicht entspannen, weil ich sehr beschäftigt b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23:48Z</dcterms:created>
  <dc:creator>CUSD220</dc:creator>
  <dc:description/>
  <dc:language>en-US</dc:language>
  <cp:lastModifiedBy> </cp:lastModifiedBy>
  <dcterms:modified xsi:type="dcterms:W3CDTF">2012-03-01T03:19:36Z</dcterms:modified>
  <cp:revision>6</cp:revision>
  <dc:subject/>
  <dc:title>Gesundheit!!</dc:title>
</cp:coreProperties>
</file>